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D24-71FE-4AE3-A9DE-EB9D9425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787-B4C6-4C13-98FE-77759B45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A4D-D3E7-404D-8CCE-FFCBB919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928-58A8-46CA-8110-A1108835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327-398B-4FE8-9C31-9139D6A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15F-1573-4143-AF05-17CC1800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067-F7A5-4CE0-9E3F-FAA9282B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BC0-3D15-4CB4-AE08-4E73AECC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C41-58CE-46F3-80E1-71A2FFEF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937-CF94-4651-8F16-4A11C337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FFD-6279-4585-8035-0F34C528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15B-EFC5-4009-AE6A-BBF9345D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1A43-902F-46CA-A041-49F15F732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4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voja_ig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7560" y="0"/>
            <a:ext cx="20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3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рфе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85840" y="2000160"/>
            <a:ext cx="835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кая из морфем служит для образования новых форм сло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2428920" y="428616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Оконч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7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7560" y="0"/>
            <a:ext cx="20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рфе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285840" y="200016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зовите лишнее слово: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повторять, вторник, второй, второп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428920" y="428616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тороп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я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7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7560" y="0"/>
            <a:ext cx="20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5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рфе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6" descr="cat.gif"/>
          <p:cNvPicPr/>
          <p:nvPr/>
        </p:nvPicPr>
        <p:blipFill>
          <a:blip r:embed="rId2"/>
          <a:stretch/>
        </p:blipFill>
        <p:spPr>
          <a:xfrm>
            <a:off x="2328840" y="1481040"/>
            <a:ext cx="4894200" cy="3597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2214720" y="535788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0800" y="0"/>
            <a:ext cx="27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85840" y="2000160"/>
            <a:ext cx="835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зовите способ образования слов: МГУ, СОШ, вуз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00040" y="43578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Сложение начальных букв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7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10800" y="0"/>
            <a:ext cx="27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285840" y="114300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кие слова образованы приставочным способом: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слез, привет, приход, продрогш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28760" y="37148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С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лез,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7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0800" y="0"/>
            <a:ext cx="27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3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85840" y="200016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Это слово образовано с помощью суффикса -Н-: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масляный, туманный, кожаный, 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6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500040" y="407196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Туман + н = </a:t>
            </a: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туман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10800" y="0"/>
            <a:ext cx="27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14200" y="642960"/>
            <a:ext cx="8358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йдите в предложении слово, образованное сложением начальной части слова с целым словом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Молодой медработник провёл осмотр детей в детском с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6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7"/>
          <p:cNvSpPr/>
          <p:nvPr/>
        </p:nvSpPr>
        <p:spPr>
          <a:xfrm>
            <a:off x="2214720" y="5143680"/>
            <a:ext cx="43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Медработ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10800" y="0"/>
            <a:ext cx="27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5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285840" y="150012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зовите иноязычную приставку, которая обозначает «направленное против чего-либо действ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6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1071720" y="4929120"/>
            <a:ext cx="49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АН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3960" y="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6"/>
          <p:cNvSpPr/>
          <p:nvPr/>
        </p:nvSpPr>
        <p:spPr>
          <a:xfrm>
            <a:off x="357120" y="92880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кажите слова, употреблённые в переносном значении: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дорогой человек, золотое кольцо, птичье крыло, лисий взгля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2000160" y="407196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дорогой человек</a:t>
            </a: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лисий взгля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3960" y="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285840" y="928800"/>
            <a:ext cx="8358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к называются слова, вышедшие из употребления в силу того, что предметы, которые они обозначали, уже не использую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2862360" y="5143680"/>
            <a:ext cx="326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Архаиз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Таблица 4" descr=""/>
          <p:cNvPicPr/>
          <p:nvPr/>
        </p:nvPicPr>
        <p:blipFill>
          <a:blip r:embed="rId2"/>
          <a:stretch/>
        </p:blipFill>
        <p:spPr>
          <a:xfrm>
            <a:off x="212760" y="139680"/>
            <a:ext cx="8791560" cy="6566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3279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15240" y="6535800"/>
            <a:ext cx="42876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3960" y="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3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85840" y="642960"/>
            <a:ext cx="8358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ыберите из слов те, которые являются ограниченными в употреблении словами: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изба, сын, красивый, вычитаемое, морфология, говорить, прецед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500040" y="4929120"/>
            <a:ext cx="67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Изба, вычитаемое, морфология, прецед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4"/>
          <p:cNvSpPr/>
          <p:nvPr/>
        </p:nvSpPr>
        <p:spPr>
          <a:xfrm>
            <a:off x="3960" y="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7" descr="cat.gif"/>
          <p:cNvPicPr/>
          <p:nvPr/>
        </p:nvPicPr>
        <p:blipFill>
          <a:blip r:embed="rId2"/>
          <a:stretch/>
        </p:blipFill>
        <p:spPr>
          <a:xfrm>
            <a:off x="1994040" y="1036800"/>
            <a:ext cx="5083200" cy="37368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8"/>
          <p:cNvSpPr/>
          <p:nvPr/>
        </p:nvSpPr>
        <p:spPr>
          <a:xfrm>
            <a:off x="1928880" y="528624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4"/>
          <p:cNvSpPr/>
          <p:nvPr/>
        </p:nvSpPr>
        <p:spPr>
          <a:xfrm>
            <a:off x="3960" y="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5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285840" y="2000160"/>
            <a:ext cx="835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айте лексическое значение слова ВПЕЧАТ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57120" y="4000680"/>
            <a:ext cx="835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След, оставленный чем-либо или кем-либо в душе, в созн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7200" y="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раз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214200" y="1214280"/>
            <a:ext cx="8358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з какого фразеологизма мы узнаём, что в определён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ом временном промежутке может быть неожиданное количество некоторых дней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571680" y="4929120"/>
            <a:ext cx="66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Семь пятниц на неде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7200" y="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раз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6"/>
          <p:cNvSpPr/>
          <p:nvPr/>
        </p:nvSpPr>
        <p:spPr>
          <a:xfrm>
            <a:off x="571680" y="114300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каком фразеологизме говорится о надёжной защите да ещё и при помощи каких-то камн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785880" y="4071960"/>
            <a:ext cx="66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Как за каменной сте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4"/>
          <p:cNvSpPr/>
          <p:nvPr/>
        </p:nvSpPr>
        <p:spPr>
          <a:xfrm>
            <a:off x="7200" y="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3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раз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6"/>
          <p:cNvSpPr/>
          <p:nvPr/>
        </p:nvSpPr>
        <p:spPr>
          <a:xfrm>
            <a:off x="571680" y="4929120"/>
            <a:ext cx="66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Как кошка с собак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57120" y="142884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дберите антонимичный фразеолог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Не разлей 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7200" y="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раз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571680" y="4929120"/>
            <a:ext cx="66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Уязвимое мес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214200" y="135720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бъясните значение следующего фразеолог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Ахиллесова п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7200" y="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5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раз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571680" y="4929120"/>
            <a:ext cx="66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Как две капли 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00040" y="571680"/>
            <a:ext cx="8286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кажите лишнее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как собак нерезаных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пруд пруд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как две капли воды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куры не клю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7920" y="0"/>
            <a:ext cx="21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214200" y="857160"/>
            <a:ext cx="8715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асть речи, которая обозначает физическое, душевное состояние человека, состояние природы и окружающей среды, оценку действи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857160" y="4572000"/>
            <a:ext cx="62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Категория состоя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4"/>
          <p:cNvSpPr/>
          <p:nvPr/>
        </p:nvSpPr>
        <p:spPr>
          <a:xfrm>
            <a:off x="7920" y="0"/>
            <a:ext cx="21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8715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Убрать лишне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второ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семер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трой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двадца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85920" y="4857840"/>
            <a:ext cx="48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Тройка – имя сущ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6840" y="0"/>
            <a:ext cx="18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85840" y="1643040"/>
            <a:ext cx="84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зовите буквы русского языка, которые не дают зву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letters.jpg"/>
          <p:cNvPicPr/>
          <p:nvPr/>
        </p:nvPicPr>
        <p:blipFill>
          <a:blip r:embed="rId2"/>
          <a:stretch/>
        </p:blipFill>
        <p:spPr>
          <a:xfrm>
            <a:off x="7351560" y="-6480"/>
            <a:ext cx="1371600" cy="1725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1500120" y="3214800"/>
            <a:ext cx="27147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вёрды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4500720" y="3214800"/>
            <a:ext cx="2714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мягки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0" descr="svoja_igra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4"/>
          <p:cNvSpPr/>
          <p:nvPr/>
        </p:nvSpPr>
        <p:spPr>
          <a:xfrm>
            <a:off x="7920" y="0"/>
            <a:ext cx="21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3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6"/>
          <p:cNvSpPr/>
          <p:nvPr/>
        </p:nvSpPr>
        <p:spPr>
          <a:xfrm>
            <a:off x="142920" y="714240"/>
            <a:ext cx="8786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кажите неверную характеристику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лежавший – страдательное причастие прош.времен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б истории – сущ. жен. р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 склон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расивейший –  качеств. прил. В простой превосходной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357120" y="5786280"/>
            <a:ext cx="66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Лежав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7920" y="0"/>
            <a:ext cx="21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142920" y="3571920"/>
            <a:ext cx="7358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Глагол 2 л.ед.ч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глагол в н.форме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сущ. ж.р. 3 скл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.;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нареч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571680" y="100008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чему приведённые ниже слова пишутся с мягким знако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Всмотриш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ь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ся, жеч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ь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, реч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ь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настеж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ь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, вскач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7920" y="0"/>
            <a:ext cx="21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5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714240" y="4357800"/>
            <a:ext cx="66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ВС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ЛЕДСТВ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571680" y="785880"/>
            <a:ext cx="778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кажите ошибочное написание предлога: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в целях, в течение, в продолжение, в след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15840" y="0"/>
            <a:ext cx="323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нтаксис и пунк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5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214200" y="2333520"/>
            <a:ext cx="7143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и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– соединительны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а, зато</a:t>
            </a: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– противительны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или, то – то </a:t>
            </a: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- разделите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285840" y="92880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зовите разряды приведённых союзов: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и, а, или, зато, то – 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4"/>
          <p:cNvSpPr/>
          <p:nvPr/>
        </p:nvSpPr>
        <p:spPr>
          <a:xfrm>
            <a:off x="15840" y="0"/>
            <a:ext cx="323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нтаксис и пунк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5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6"/>
          <p:cNvSpPr/>
          <p:nvPr/>
        </p:nvSpPr>
        <p:spPr>
          <a:xfrm>
            <a:off x="285840" y="1000080"/>
            <a:ext cx="771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кажите лишне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Я начал работ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Он может рисов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Ты должен помоч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Я буду учител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57120" y="4286160"/>
            <a:ext cx="671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Я буду учителем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(буду учителем –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оставное именное сказуемое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4"/>
          <p:cNvSpPr/>
          <p:nvPr/>
        </p:nvSpPr>
        <p:spPr>
          <a:xfrm>
            <a:off x="15840" y="0"/>
            <a:ext cx="323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3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нтаксис и пунк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5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6"/>
          <p:cNvSpPr/>
          <p:nvPr/>
        </p:nvSpPr>
        <p:spPr>
          <a:xfrm>
            <a:off x="214200" y="5214960"/>
            <a:ext cx="66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Говорил улыбаясь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– сп.связи примык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0" y="857160"/>
            <a:ext cx="892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Укажите лишнее словосочет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липовая алле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говорил улыбаяс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верного друг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красным флаг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15840" y="0"/>
            <a:ext cx="323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нтаксис и пунк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5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6"/>
          <p:cNvSpPr/>
          <p:nvPr/>
        </p:nvSpPr>
        <p:spPr>
          <a:xfrm>
            <a:off x="571680" y="1000080"/>
            <a:ext cx="82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Расставьте знаки препинания, объясните их постанов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Он смотрел на небо утреннее солнечное и вспоминал дет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428760" y="3571920"/>
            <a:ext cx="678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Он смотрел на небо,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утреннее, солнечное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, и вспоминал детство.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(обособленное определ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15840" y="0"/>
            <a:ext cx="323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5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нтаксис и пунк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5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6"/>
          <p:cNvSpPr/>
          <p:nvPr/>
        </p:nvSpPr>
        <p:spPr>
          <a:xfrm>
            <a:off x="571680" y="714240"/>
            <a:ext cx="814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Укажите лишнее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Вечере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На улице рассве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Днём потепле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Завтра моро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500040" y="428616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Завтра мороз. – назывное 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4"/>
          <p:cNvSpPr/>
          <p:nvPr/>
        </p:nvSpPr>
        <p:spPr>
          <a:xfrm>
            <a:off x="10080" y="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рф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5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6"/>
          <p:cNvSpPr/>
          <p:nvPr/>
        </p:nvSpPr>
        <p:spPr>
          <a:xfrm>
            <a:off x="571680" y="71424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йдите ошиб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росток, вырастали, каснулись, загорели,  вскачили, озори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7"/>
          <p:cNvSpPr/>
          <p:nvPr/>
        </p:nvSpPr>
        <p:spPr>
          <a:xfrm>
            <a:off x="357120" y="342900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кОснулись, вскОчили, озАрил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4"/>
          <p:cNvSpPr/>
          <p:nvPr/>
        </p:nvSpPr>
        <p:spPr>
          <a:xfrm>
            <a:off x="10080" y="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рф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5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6"/>
          <p:cNvSpPr/>
          <p:nvPr/>
        </p:nvSpPr>
        <p:spPr>
          <a:xfrm>
            <a:off x="571680" y="714240"/>
            <a:ext cx="81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ставьте пропущенные орфограм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Наши ко..еги сегодня п..бывали в кр..еведческом музе.. города Р..ст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500040" y="2967120"/>
            <a:ext cx="8072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Наши ко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ЛЛ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еги сегодня пОбывали в кр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еведческом музе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города Р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О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ст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6840" y="0"/>
            <a:ext cx="18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letters.jpg"/>
          <p:cNvPicPr/>
          <p:nvPr/>
        </p:nvPicPr>
        <p:blipFill>
          <a:blip r:embed="rId2"/>
          <a:stretch/>
        </p:blipFill>
        <p:spPr>
          <a:xfrm>
            <a:off x="7351560" y="-6480"/>
            <a:ext cx="1371600" cy="1725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857160" y="22147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колько звуков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в слове МОЛОКОЗАВОД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1857240" y="3786120"/>
            <a:ext cx="392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малаказав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о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8800" spc="-1" strike="noStrike" u="sng">
                <a:solidFill>
                  <a:srgbClr val="ffffff"/>
                </a:solidFill>
                <a:uFillTx/>
                <a:latin typeface="Calibri"/>
              </a:rPr>
              <a:t>оди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9" descr="svoja_igra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4"/>
          <p:cNvSpPr/>
          <p:nvPr/>
        </p:nvSpPr>
        <p:spPr>
          <a:xfrm>
            <a:off x="10080" y="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3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рф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Рисунок 5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6"/>
          <p:cNvSpPr/>
          <p:nvPr/>
        </p:nvSpPr>
        <p:spPr>
          <a:xfrm>
            <a:off x="571680" y="714240"/>
            <a:ext cx="81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асскажите о правописании суффиксов прилагательных (Н, Н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7"/>
          <p:cNvSpPr/>
          <p:nvPr/>
        </p:nvSpPr>
        <p:spPr>
          <a:xfrm>
            <a:off x="285840" y="2357280"/>
            <a:ext cx="8858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ин, ан, ян 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роме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стеклянный , оловянный, деревянны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н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если образовано от сущ. с основой на Н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онн, енн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роме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ветреный, маслены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4"/>
          <p:cNvSpPr/>
          <p:nvPr/>
        </p:nvSpPr>
        <p:spPr>
          <a:xfrm>
            <a:off x="10080" y="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рф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8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9"/>
          <p:cNvSpPr/>
          <p:nvPr/>
        </p:nvSpPr>
        <p:spPr>
          <a:xfrm>
            <a:off x="571680" y="714240"/>
            <a:ext cx="814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Просклоняйте числительное СТОПЯ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0"/>
          <p:cNvSpPr/>
          <p:nvPr/>
        </p:nvSpPr>
        <p:spPr>
          <a:xfrm>
            <a:off x="500040" y="2428920"/>
            <a:ext cx="814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И. СТОП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Р. СТАП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Д. СТАП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В. СТАП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Т. СТАПЯ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П. О СТАП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10080" y="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5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рф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5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6"/>
          <p:cNvSpPr/>
          <p:nvPr/>
        </p:nvSpPr>
        <p:spPr>
          <a:xfrm>
            <a:off x="285840" y="714240"/>
            <a:ext cx="871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ставьте пропущенные орфограм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молот..ба, сош..ём, гвоз..дик, пр..бывать на перрон, бе..дельничать, зайч..нок, ч..рный, ш..лк, зарабат..в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(не) взлюбить, ничуть (не)порядочный, масле..ый, ц..ркуль, (светло) голубое, чу..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7"/>
          <p:cNvSpPr/>
          <p:nvPr/>
        </p:nvSpPr>
        <p:spPr>
          <a:xfrm>
            <a:off x="142920" y="457200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молотЬба, сошЬём, гвоздик, прИбывать на перрон, беЗдельничать, зайчОнок, чЁрный, шЁлк, зарабатЫвать, невзлюбить, ничуть не порядочный, маслеНый, цИрку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светло-голубое, чуВ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5" descr="cat.gif"/>
          <p:cNvPicPr/>
          <p:nvPr/>
        </p:nvPicPr>
        <p:blipFill>
          <a:blip r:embed="rId2"/>
          <a:stretch/>
        </p:blipFill>
        <p:spPr>
          <a:xfrm>
            <a:off x="6864480" y="-6480"/>
            <a:ext cx="2286000" cy="16830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357120" y="1643040"/>
            <a:ext cx="8358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асставьте правильно ударения в словах: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средствами, намерение, копировать, свободнее, шофер, оптовый, сливов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0" y="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00 орфоэ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143000" y="453132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сре́дствами, наме́рение, копи́ровать, свобо́днее, шофёр, опто́вый, сли́вов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9" descr="svoja_igra.jpg"/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5"/>
          <p:cNvSpPr/>
          <p:nvPr/>
        </p:nvSpPr>
        <p:spPr>
          <a:xfrm>
            <a:off x="0" y="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80  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6" descr="cat.gif"/>
          <p:cNvPicPr/>
          <p:nvPr/>
        </p:nvPicPr>
        <p:blipFill>
          <a:blip r:embed="rId2"/>
          <a:stretch/>
        </p:blipFill>
        <p:spPr>
          <a:xfrm>
            <a:off x="7095960" y="-6480"/>
            <a:ext cx="2054520" cy="15112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7"/>
          <p:cNvSpPr/>
          <p:nvPr/>
        </p:nvSpPr>
        <p:spPr>
          <a:xfrm>
            <a:off x="357120" y="164304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зовите Ф.И.О. главного героя повести А.С. Пушкина «Капитанская д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857160" y="405900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Calibri"/>
              </a:rPr>
              <a:t>Пётр Андреевич Гринё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9" descr="svoja_igra.jpg"/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8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571680" y="78588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Monotype Corsiva"/>
              </a:rPr>
              <a:t>Спасибо за участие в игре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svoja_igra.jpg"/>
          <p:cNvPicPr/>
          <p:nvPr/>
        </p:nvPicPr>
        <p:blipFill>
          <a:blip r:embed="rId2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7"/>
          <p:cNvSpPr/>
          <p:nvPr/>
        </p:nvSpPr>
        <p:spPr>
          <a:xfrm>
            <a:off x="142920" y="785880"/>
            <a:ext cx="87152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Информационные  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http://img02.darudar.org/s600/00/01/c5/fa/c5faac1622d73ec119d12556bb98101f.g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http://www.tribuna.ru/upload/iblock/6f8/6f8a21361f9e89014d043fb2a3f985e0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http://d1.endata.cx/data/games/26110/AFISHAedirhfgkfjfd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http://smilaforum.org.ua/download/file.php?avatar=13279_1353335481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6840" y="0"/>
            <a:ext cx="18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3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5" descr="letters.jpg"/>
          <p:cNvPicPr/>
          <p:nvPr/>
        </p:nvPicPr>
        <p:blipFill>
          <a:blip r:embed="rId2"/>
          <a:stretch/>
        </p:blipFill>
        <p:spPr>
          <a:xfrm>
            <a:off x="7351560" y="-6480"/>
            <a:ext cx="1371600" cy="1725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571680" y="1785960"/>
            <a:ext cx="792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зовите звуки, которых в русском языке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нет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ё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ы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ю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я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1785960" y="428616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е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ё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ю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я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0" descr="svoja_igra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6840" y="0"/>
            <a:ext cx="18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letters.jpg"/>
          <p:cNvPicPr/>
          <p:nvPr/>
        </p:nvPicPr>
        <p:blipFill>
          <a:blip r:embed="rId2"/>
          <a:stretch/>
        </p:blipFill>
        <p:spPr>
          <a:xfrm>
            <a:off x="7351560" y="-6480"/>
            <a:ext cx="1371600" cy="1725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357120" y="2214720"/>
            <a:ext cx="821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зовите слово, в котором все согласные звуки твёрдые:  покой, кино, купе, мужч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1785960" y="428616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КУПЕ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УПЭ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8" descr="svoja_igra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6840" y="0"/>
            <a:ext cx="18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5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letters.jpg"/>
          <p:cNvPicPr/>
          <p:nvPr/>
        </p:nvPicPr>
        <p:blipFill>
          <a:blip r:embed="rId2"/>
          <a:stretch/>
        </p:blipFill>
        <p:spPr>
          <a:xfrm>
            <a:off x="7351560" y="-6480"/>
            <a:ext cx="1371600" cy="1725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285840" y="2214720"/>
            <a:ext cx="835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кажите ошибку в транскрипции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базнат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эл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ый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2428920" y="4286160"/>
            <a:ext cx="514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й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’]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 – всегда мягкий зву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8" descr="svoja_igra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7560" y="0"/>
            <a:ext cx="20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рфе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285840" y="200016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 каком слове суффикс не такой, как в остальных: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мячик, стульчик, лучик, огур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2428920" y="428616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туль</a:t>
            </a: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nastol.com.ua-12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7560" y="0"/>
            <a:ext cx="20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0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рфе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85840" y="2000160"/>
            <a:ext cx="835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колько морфем в слове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АСПОЛОЖИТЬСЯ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357120" y="3571920"/>
            <a:ext cx="8501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alibri"/>
              </a:rPr>
              <a:t>6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ве приставки, корень, суффикс, окончание, постфи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svoja_igr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5757840"/>
            <a:ext cx="1876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4-07T18:01:50Z</dcterms:modified>
  <cp:revision>32</cp:revision>
  <dc:subject/>
  <dc:title>Слайд 1</dc:title>
</cp:coreProperties>
</file>